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A21-25B7-4FCC-B3BD-CE08DFCA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4B6-409E-43B2-AD11-A42B56B5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CBF-58EF-453C-9F7C-656ECF89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3EC-4D66-44F6-8C86-777935F1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E965-78B0-480E-9FF3-DF111751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96F3-F6F3-403E-91A8-2A50454E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797D-DE46-4096-A70B-98E2B795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A71C-DE80-4822-8A28-201670CA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9394-0BA9-4DF3-A4EE-81869A2D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2455-B89F-4AAF-8D2C-7FC41A80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CB2A-AFE4-40ED-AB32-2EBEB8F0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2E5-3FFC-4A99-97F8-862DF10C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A809-1D2C-4A89-9EBF-ED81088F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B4D6-2BD0-470D-A09E-FD7E4064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8256-6549-4531-8A01-96EE2065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94C5-0EC8-42EF-86C0-5E9A8AA3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4B9E-A22D-43B0-BD33-567CB15C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E6018-7585-445E-8180-F7C9CB20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E35B-D064-4149-B156-A1098636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F98BB-F23F-4F8A-9B97-1DD442AD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6EA6E-7BED-4E0D-BA23-A0614260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168E-2153-4BA1-A41A-B5537F06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BC9-7BB2-4F77-9F76-A3A4E099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E8B69-207B-47FC-8575-6F0C3BFE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3F7C3-89B7-4B00-8DB6-9A683FDC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C8E6E-BDE1-4EDE-A652-A6EDFBF3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4FF58-E405-4D7B-A947-1888A8B7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A7807-FB88-4C8C-A844-855600AA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34465-703B-4BDF-A95A-0F31BF1A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9CB7-CB24-4202-B76C-44F80129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3A192-79F8-4DE0-BA2C-5C8E6DEB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463C0C-A24B-44A0-AF38-F3B4207F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AC9E9-CE9E-4623-ABCB-D4A22BEB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B57-EA8B-4947-B42A-FC24040E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FC6AF-0088-4603-A2AE-9117C6F5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A24FA5-CBB2-410C-8945-220DCAEA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1386AB-A9FE-4A59-A734-E4589F5D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F6B130-6927-4106-B6EA-B0C24F69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4EDD0-44A1-40A4-BB76-85DB2E9D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5A010B-C54B-48CE-A42C-CFE7B838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2F79F-8D00-4912-B274-2E8B46FA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A3A8E3-F11C-490C-886B-8BD5D831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CB104F-5A85-4399-A342-77DD38DA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59088-945C-40B4-B643-DF36E999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EEE-698C-493C-8790-7E236076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9BE69-2758-467E-91A8-87A4FF3B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9C814-0988-4C8B-B7EF-5C017E7D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D83E9-8C93-4A2E-A8A5-05017B6E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AF0B9-F7EA-43C6-92B4-3AB168CB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286BF-D4D3-4B0F-AB46-B4968D14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94F18-48DC-4810-B9E1-E055C63B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03C4F-86E2-4197-942F-C358EB72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A66D7-1FEE-488B-A24C-0BDBA611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D03CC-CEA8-401E-AAF5-659302C6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3A6C4-01E8-4CE8-9E43-27DA3AE1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9B8-C7CD-45D4-9873-9AF90EA5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CAFBC-941E-4A52-B4F1-8051B274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E2B-3707-4C90-9B71-299664D4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39D-1900-4EC8-8D8E-C4FF28F5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AFD-F4D4-4736-A3A0-E63DADEC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53B7-0EA7-47D7-979A-1DBB77092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15F3-8567-42F2-B36C-5C63E019C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B9A0-4E82-4008-A1D1-092F01DEB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1C9B-D912-4556-A5B3-9F2540245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5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6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7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0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40F8-7FFF-4AE3-B28B-7F5397BA6A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15000" spc="-1" strike="noStrike">
                <a:solidFill>
                  <a:srgbClr val="dfd293"/>
                </a:solidFill>
                <a:latin typeface="Arial Black"/>
              </a:rPr>
              <a:t>WORK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4" descr="C:\Documents and Settings\Owner\Local Settings\Temporary Internet Files\Content.IE5\0ZRNYSP1\MC900299717[1].wmf"/>
          <p:cNvPicPr/>
          <p:nvPr/>
        </p:nvPicPr>
        <p:blipFill>
          <a:blip r:embed="rId1"/>
          <a:stretch/>
        </p:blipFill>
        <p:spPr>
          <a:xfrm>
            <a:off x="7086600" y="4952880"/>
            <a:ext cx="1819440" cy="1603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C:\Documents and Settings\Owner\Local Settings\Temporary Internet Files\Content.IE5\977BHTOA\MC900301310[1].wmf"/>
          <p:cNvPicPr/>
          <p:nvPr/>
        </p:nvPicPr>
        <p:blipFill>
          <a:blip r:embed="rId2"/>
          <a:stretch/>
        </p:blipFill>
        <p:spPr>
          <a:xfrm>
            <a:off x="4114800" y="3581280"/>
            <a:ext cx="1666800" cy="1817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:\Documents and Settings\Owner\Local Settings\Temporary Internet Files\Content.IE5\H10TUJFZ\MC900446010[1].wmf"/>
          <p:cNvPicPr/>
          <p:nvPr/>
        </p:nvPicPr>
        <p:blipFill>
          <a:blip r:embed="rId3"/>
          <a:stretch/>
        </p:blipFill>
        <p:spPr>
          <a:xfrm>
            <a:off x="533520" y="4267080"/>
            <a:ext cx="1771560" cy="1544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C:\Documents and Settings\Owner\Local Settings\Temporary Internet Files\Content.IE5\LWGZ1XC9\MC900301308[1].wmf"/>
          <p:cNvPicPr/>
          <p:nvPr/>
        </p:nvPicPr>
        <p:blipFill>
          <a:blip r:embed="rId4"/>
          <a:stretch/>
        </p:blipFill>
        <p:spPr>
          <a:xfrm>
            <a:off x="7467480" y="0"/>
            <a:ext cx="1470240" cy="1812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" descr="C:\Documents and Settings\Owner\Local Settings\Temporary Internet Files\Content.IE5\1K9XBDPV\MC900446008[1].wmf"/>
          <p:cNvPicPr/>
          <p:nvPr/>
        </p:nvPicPr>
        <p:blipFill>
          <a:blip r:embed="rId5"/>
          <a:stretch/>
        </p:blipFill>
        <p:spPr>
          <a:xfrm>
            <a:off x="228600" y="152280"/>
            <a:ext cx="16430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coun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king income and assets of a business over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e financial stat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rd business trans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and use information systems to track financial performance, tax strategy and health &amp; benefits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ShockwaveFlash1"/>
          <p:cNvGraphicFramePr/>
          <p:nvPr/>
        </p:nvGraphicFramePr>
        <p:xfrm>
          <a:off x="685800" y="533520"/>
          <a:ext cx="800100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8001000" cy="579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ShockwaveFlash1"/>
          <p:cNvGraphicFramePr/>
          <p:nvPr/>
        </p:nvGraphicFramePr>
        <p:xfrm>
          <a:off x="914400" y="609480"/>
          <a:ext cx="777096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09480"/>
                    <a:ext cx="7770960" cy="5792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cess of managing people and resources in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ategic pla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ting 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ging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loying human and financial assets to achieve 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ing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ShockwaveFlash1"/>
          <p:cNvGraphicFramePr/>
          <p:nvPr/>
        </p:nvGraphicFramePr>
        <p:xfrm>
          <a:off x="609480" y="609480"/>
          <a:ext cx="8077320" cy="58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8077320" cy="5867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ercial activity of providing funds and capi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porate fi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ncial pla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stment ban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u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E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ShockwaveFlash1"/>
          <p:cNvGraphicFramePr/>
          <p:nvPr/>
        </p:nvGraphicFramePr>
        <p:xfrm>
          <a:off x="609480" y="457200"/>
          <a:ext cx="807876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8078760" cy="5792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ercial processes involved in promoting, selling, and distributing a product or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ompanies have a manager in charge of mark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eers in Busin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1784520" y="914400"/>
            <a:ext cx="56070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What do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0" spc="-1" strike="noStrike">
                <a:solidFill>
                  <a:srgbClr val="ffffff"/>
                </a:solidFill>
                <a:latin typeface="Arial Black"/>
              </a:rPr>
              <a:t>YOU</a:t>
            </a:r>
            <a:endParaRPr b="0" lang="en-US" sz="1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Think?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6"/>
          <p:cNvSpPr/>
          <p:nvPr/>
        </p:nvSpPr>
        <p:spPr>
          <a:xfrm>
            <a:off x="990720" y="533520"/>
            <a:ext cx="7467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 Black"/>
              </a:rPr>
              <a:t>You’ll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probabl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pend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t least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Arial Black"/>
              </a:rPr>
              <a:t>1/3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of your life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t work …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maybe </a:t>
            </a:r>
            <a:r>
              <a:rPr b="0" i="1" lang="en-US" sz="6000" spc="-1" strike="noStrike">
                <a:solidFill>
                  <a:srgbClr val="000000"/>
                </a:solidFill>
                <a:latin typeface="Arial Black"/>
              </a:rPr>
              <a:t>1/2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685800" y="990720"/>
            <a:ext cx="7620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That’s a </a:t>
            </a:r>
            <a:r>
              <a:rPr b="0" i="1" lang="en-US" sz="8800" spc="-1" strike="noStrike">
                <a:solidFill>
                  <a:srgbClr val="ffffff"/>
                </a:solidFill>
                <a:latin typeface="Arial Black"/>
              </a:rPr>
              <a:t>major</a:t>
            </a: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investment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14400" y="1523880"/>
            <a:ext cx="70135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i="1" lang="en-US" sz="14000" spc="-1" strike="noStrike">
                <a:solidFill>
                  <a:srgbClr val="000000"/>
                </a:solidFill>
                <a:latin typeface="Arial Black"/>
              </a:rPr>
              <a:t>huge</a:t>
            </a:r>
            <a:endParaRPr b="0" lang="en-US" sz="1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investment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1334520" y="1628640"/>
            <a:ext cx="57495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o what are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 Black"/>
              </a:rPr>
              <a:t>YOU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oing to do for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a career?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2" name="Picture 6" descr="C:\Documents and Settings\Owner\Local Settings\Temporary Internet Files\Content.IE5\H10TUJFZ\dglxasset[1].aspx"/>
          <p:cNvPicPr/>
          <p:nvPr/>
        </p:nvPicPr>
        <p:blipFill>
          <a:blip r:embed="rId1"/>
          <a:stretch/>
        </p:blipFill>
        <p:spPr>
          <a:xfrm>
            <a:off x="6824520" y="4435560"/>
            <a:ext cx="2319480" cy="2422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C:\Documents and Settings\Owner\Local Settings\Temporary Internet Files\Content.IE5\K9QNCXEJ\dglxasset[1].aspx"/>
          <p:cNvPicPr/>
          <p:nvPr/>
        </p:nvPicPr>
        <p:blipFill>
          <a:blip r:embed="rId2"/>
          <a:stretch/>
        </p:blipFill>
        <p:spPr>
          <a:xfrm>
            <a:off x="7010280" y="457200"/>
            <a:ext cx="1729080" cy="1682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C:\Documents and Settings\Owner\Local Settings\Temporary Internet Files\Content.IE5\RF9ZQ9PN\dglxasset[1].aspx"/>
          <p:cNvPicPr/>
          <p:nvPr/>
        </p:nvPicPr>
        <p:blipFill>
          <a:blip r:embed="rId3"/>
          <a:stretch/>
        </p:blipFill>
        <p:spPr>
          <a:xfrm>
            <a:off x="304920" y="4800600"/>
            <a:ext cx="172404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854360" y="1143000"/>
            <a:ext cx="52146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Thinking 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about 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Arial Black"/>
              </a:rPr>
              <a:t>Business </a:t>
            </a: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6" name="Picture 5" descr="C:\Documents and Settings\Owner\Local Settings\Temporary Internet Files\Content.IE5\LG3Y5YJH\dglxasset[1].aspx"/>
          <p:cNvPicPr/>
          <p:nvPr/>
        </p:nvPicPr>
        <p:blipFill>
          <a:blip r:embed="rId1"/>
          <a:stretch/>
        </p:blipFill>
        <p:spPr>
          <a:xfrm>
            <a:off x="762120" y="380880"/>
            <a:ext cx="1874880" cy="1689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C:\Documents and Settings\Owner\Local Settings\Temporary Internet Files\Content.IE5\E27L6KVT\dglxasset[1].aspx"/>
          <p:cNvPicPr/>
          <p:nvPr/>
        </p:nvPicPr>
        <p:blipFill>
          <a:blip r:embed="rId2"/>
          <a:stretch/>
        </p:blipFill>
        <p:spPr>
          <a:xfrm>
            <a:off x="7086600" y="1219320"/>
            <a:ext cx="171612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2035080" y="1346040"/>
            <a:ext cx="507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Let’s take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look …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9" name="Picture 7" descr="C:\Documents and Settings\Owner\Local Settings\Temporary Internet Files\Content.IE5\IZIZQ9MF\dglxasset[1].aspx"/>
          <p:cNvPicPr/>
          <p:nvPr/>
        </p:nvPicPr>
        <p:blipFill>
          <a:blip r:embed="rId1"/>
          <a:stretch/>
        </p:blipFill>
        <p:spPr>
          <a:xfrm>
            <a:off x="228600" y="2286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C:\Documents and Settings\Owner\Local Settings\Temporary Internet Files\Content.IE5\6L7S58RI\dglxasset[1].aspx"/>
          <p:cNvPicPr/>
          <p:nvPr/>
        </p:nvPicPr>
        <p:blipFill>
          <a:blip r:embed="rId2"/>
          <a:stretch/>
        </p:blipFill>
        <p:spPr>
          <a:xfrm>
            <a:off x="5943600" y="3505320"/>
            <a:ext cx="2986200" cy="3009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C:\Documents and Settings\Owner\Local Settings\Temporary Internet Files\Content.IE5\B3XJVXGW\MC900352723[1].wmf"/>
          <p:cNvPicPr/>
          <p:nvPr/>
        </p:nvPicPr>
        <p:blipFill>
          <a:blip r:embed="rId3"/>
          <a:stretch/>
        </p:blipFill>
        <p:spPr>
          <a:xfrm>
            <a:off x="380880" y="3276720"/>
            <a:ext cx="160020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reers in Busi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coun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n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ShockwaveFlash1"/>
          <p:cNvGraphicFramePr/>
          <p:nvPr/>
        </p:nvGraphicFramePr>
        <p:xfrm>
          <a:off x="609480" y="380880"/>
          <a:ext cx="8307360" cy="62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307360" cy="62499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6:20:08Z</dcterms:created>
  <dc:creator>HP Authorized Customer</dc:creator>
  <dc:description/>
  <dc:language>en-US</dc:language>
  <cp:lastModifiedBy>HP Authorized Customer</cp:lastModifiedBy>
  <dcterms:modified xsi:type="dcterms:W3CDTF">2010-04-28T04:31:06Z</dcterms:modified>
  <cp:revision>21</cp:revision>
  <dc:subject/>
  <dc:title>       WORK</dc:title>
</cp:coreProperties>
</file>